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ct" ContentType="image/x-pi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FA6-B9E5-4711-A6B4-EA546325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741-BB2D-4D51-8F4D-DED238F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23F-9688-488B-886E-A4F54C4F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DE1-F973-4FDF-893F-7A8118F9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8B8DB-8E11-46B8-9F62-4BF78A46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8950-3B1E-4A91-AB26-638C97D0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CDB89-6BC5-40D8-9B9B-47CE6E21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941A9-7604-44DE-85E9-A78DC53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59439-EE5A-4442-AC38-3A1A7994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DBF2B-709E-44E0-BC9B-E102940C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64A41-E34D-491C-B55A-029EB369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386-160C-4557-8522-D6438C52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E0521-2FBF-46BF-8214-270D57D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B6191-814D-464D-B2FC-5B475A67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DD5D-6AB3-4206-8022-C9209EC9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FD726-115C-4EA7-AE58-2B11AEAD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B2DF6-743B-48B8-9221-BE202904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539F-A0ED-40A7-BB82-8E18E9E1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AA77-A180-476F-B51C-5661FE66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8DEE-72A5-49F2-8A15-C6DC5F8F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E5AB2-7FF8-46D1-BD6B-5408A07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1FC4-AE80-436E-892A-E190D56C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B20-46F1-4BFC-9E09-E157D3F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A759-C5CD-4FB7-9D89-ACE40561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823D-654C-462B-A583-119BE038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4598-C47E-4957-83BE-73534AB5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4DF6-DC89-4B28-B852-1BE23DF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8EC3-CC06-4AD1-A8D1-C08352F1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3DE1C-91CC-45E1-9A31-99E17E95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1CAF-7BD3-4D64-84D6-1B091903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629F9-1716-40E6-B971-78EF2E1A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55B5-8F01-4667-BDFC-C6FA0CD8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C34A-9AC0-454F-A86A-5488D02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7CC-C4D8-45C2-A891-23A74BFB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E8FC-D667-408A-878E-29A200B3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0558-9FAC-4595-B4AC-217821D5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89CF-8282-4BDB-B656-BF114098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D86D-11C9-4A36-83CE-C72654EB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EF733-0F25-4B2F-832B-6A04320E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C159-FD14-4225-BF32-55127D6F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0174B-CD6F-47D9-B9A1-F8DD2EA2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332B7-25AB-4BCD-87A4-F487BCCA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7840-4661-45D4-8335-75C1DFE9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64F80-2CA1-414B-8CC9-8641C416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78F-B78E-47EC-BD68-75BB3C36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51FC4-E06D-498A-A999-06CC9F8E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74644-5353-4273-A544-A60F421C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2F3F2-0C13-4F6C-8D8C-06A8C7CD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54ACA-4A1A-461C-931E-81D8E166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0112-4566-458A-B306-F503DE9C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8A886-4F80-440D-B10E-A918B90C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067D-473F-4135-A475-8484B51D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1E320-A915-4A4E-B2C9-8EF9F0C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B60B-527C-44E7-B589-BE0B508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93157-EE60-41EC-94AC-DFBC9DA6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5F7-EF3C-4D2F-B787-1509F6FC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A483-1B6E-4B8C-AE66-EB7DEB18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89DEF-2481-4E02-B880-372F12CB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6C096-81C3-49E8-8C3E-450B82D1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D5A6E-40A6-40A1-A4AC-178D17C2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F3ACC-08A4-4D55-8E7A-964F7D85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656A-DA55-4704-9356-A535514F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7410-9C27-478C-836A-5665D305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4F394-C2F7-4FAA-B8FE-8DA35717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8AD18-01E7-4E2B-8529-FADB9C8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A5BA8-D59E-4ACE-A07B-526813A8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0C4-83D9-4556-97D8-C78D87A7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3E83F-9546-48E6-A63F-A213D5DB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55D6E-4D86-4766-AC2C-44A2F541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49102-9DBA-48AB-B8F9-CA2625D9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1B9BD-5940-4888-8732-A5B92B38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CE8D5-7C85-4E5B-8766-1EBDF466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F9E60-AD2B-48CB-8424-6409B4EE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7B93-3506-4478-BCBE-B223F8D2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DD12-3CA0-4AA6-A586-7CDC513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9BD72-BC4E-478E-9C21-D08F077C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2B9A-97D2-45A3-A3BC-31316C4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A5E-F75D-45EF-A995-EE426FE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83D60-ED86-4D2E-AD8B-B1BE2957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7A8AC-B446-46C8-BA4E-6AE4C51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72F43-4B28-4341-B2D1-CAB2E149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F465C-A2BE-4FFC-8166-32C84A7A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67B4B-4AB4-43D3-9489-D84DC7F4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65E81-52F8-45BC-AB49-EFEA8703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0A300-E972-4DA2-AFC5-D4108527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18876-EE06-4630-BE3E-CDA711A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0CD7F-1F64-4174-97E3-14EED2BD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11B4F-DFAE-4D5E-A4D6-5D34FA6E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35D-5E2E-42DA-86AB-DEC8022E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37806-1828-4981-B460-96F41B4B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ADEC6-183C-4DBB-8F10-2F3C216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BC799-019A-4763-B109-48D56D2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E371-5DBE-4CC3-B721-4A65F628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A8676-068C-4472-BE3E-C7F248C4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22D5E-F726-4EED-9CCF-F21B19AE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2FE18-DABF-4CAE-8E3E-49D2392E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D13DB-41E4-4E20-8EE7-71822E3D7EC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B6F69-0B82-4756-9843-6E61377DDEC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888A2-9A22-4573-86CB-70B92714EAE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34E41-62D7-4318-B9BA-E274D24EE58A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BC290-E55C-42E4-8276-572BB13168E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CF540-1595-4934-A8B1-47A714E0838F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3896A-CCC2-45FE-8949-7D2BEE0BA30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1872C-E7DC-409C-879C-7753D5ADFDF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99FBE-3C0A-466B-ABD0-0D1329C4F4C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1589B-78D0-4B41-9093-1AE6140A4BE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3CD4C-0527-4638-8752-0DD7529DFE6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3FD19-9F1D-4CE7-B92C-6217D65ACBC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968A8-2353-403B-B202-709DF55C233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EB668-3D3A-44B2-8DA0-371E56155DB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6CD49-3372-4E61-860E-1AD6FC12D3D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16786-8002-4107-BF91-F41F2674C24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4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Learning Goal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sto MT"/>
              </a:rPr>
              <a:t>What are they?  How do I use them? 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-1797120" y="2871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Steps to Writing</a:t>
            </a:r>
            <a:r>
              <a:rPr b="0" i="1" lang="en-US" sz="4700" spc="-1" strike="noStrike">
                <a:solidFill>
                  <a:srgbClr val="404040"/>
                </a:solidFill>
                <a:latin typeface="Calisto MT"/>
              </a:rPr>
              <a:t> Quality </a:t>
            </a: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Learning Goals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lect the verb (Highly Important Step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rite the noun phras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e sure that your goal is “measurable”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nalyze your unit goals for cognitive complexity to ensure your unit is balanc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Bloom’s Taxonomy of Thinking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35080" y="2133720"/>
          <a:ext cx="8557920" cy="3840120"/>
        </p:xfrm>
        <a:graphic>
          <a:graphicData uri="http://schemas.openxmlformats.org/drawingml/2006/table">
            <a:tbl>
              <a:tblPr/>
              <a:tblGrid>
                <a:gridCol w="1641240"/>
                <a:gridCol w="1505160"/>
                <a:gridCol w="1385640"/>
                <a:gridCol w="1408320"/>
                <a:gridCol w="1190520"/>
                <a:gridCol w="142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now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ompreh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now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Understan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pply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nalyz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reat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valuat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Retrieve knowledge from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onstruct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mplement a procedure in a given sit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eak material into parts &amp; determine how pars relate to one another and an overall 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ing elements together to form a new pattern or 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Make judgments based on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oal:  Students will be able to </a:t>
            </a: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understand</a:t>
            </a:r>
            <a:r>
              <a:rPr b="0" i="1" lang="en-US" sz="2000" spc="-1" strike="noStrike" u="sng">
                <a:solidFill>
                  <a:srgbClr val="262626"/>
                </a:solidFill>
                <a:uFillTx/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at a myth is a story that explains something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eam Task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</a:t>
            </a: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Rivers Around the Worl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Use the theory of Backwards Design to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Clearly define your learning goal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Identify what evidence (or assessment) would effectively measure student learning of that goal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lan a method of instructio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So, what will you actually be teaching about?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Identify a topi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Design a web of questions around your topi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ece9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Tell the </a:t>
            </a:r>
            <a:r>
              <a:rPr b="0" lang="en-US" sz="1700" spc="-1" strike="noStrike" u="sng">
                <a:solidFill>
                  <a:srgbClr val="404040"/>
                </a:solidFill>
                <a:uFillTx/>
                <a:latin typeface="Calisto MT"/>
              </a:rPr>
              <a:t>whole</a:t>
            </a: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 story!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ece9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Bring it around to today!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Turn your questions into learning goal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5-10 cognitive goal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1-2 psychomotor goal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1-2 affective learning goal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Look to the GLCEs/HSCE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Analyze your goals according to cognitive complexi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ece9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3"/>
          <p:cNvSpPr/>
          <p:nvPr/>
        </p:nvSpPr>
        <p:spPr>
          <a:xfrm>
            <a:off x="3035880" y="338148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Early European 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earning Goals/Outcom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pecify what students should learn as a result of the instructional experien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“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nstructional intent”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s made up of a </a:t>
            </a:r>
            <a:r>
              <a:rPr b="0" lang="en-US" sz="2000" spc="-1" strike="noStrike" u="sng">
                <a:solidFill>
                  <a:srgbClr val="262626"/>
                </a:solidFill>
                <a:uFillTx/>
                <a:latin typeface="Calisto MT"/>
              </a:rPr>
              <a:t>verb phrase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&amp; </a:t>
            </a:r>
            <a:r>
              <a:rPr b="0" lang="en-US" sz="2000" spc="-1" strike="noStrike" u="sng">
                <a:solidFill>
                  <a:srgbClr val="262626"/>
                </a:solidFill>
                <a:uFillTx/>
                <a:latin typeface="Calisto MT"/>
              </a:rPr>
              <a:t>noun phras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Verb phrase  = cognitive process that is the intended learning outcom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un phrase =the subject area content that the students should lear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31920" y="270000"/>
            <a:ext cx="83437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erms to Remember….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lig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isalig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ackwards Desig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Your goals should be in alignment with your instruction &amp; assessment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58800" y="2521080"/>
          <a:ext cx="8089920" cy="3475080"/>
        </p:xfrm>
        <a:graphic>
          <a:graphicData uri="http://schemas.openxmlformats.org/drawingml/2006/table">
            <a:tbl>
              <a:tblPr/>
              <a:tblGrid>
                <a:gridCol w="2697120"/>
                <a:gridCol w="2695680"/>
                <a:gridCol w="2697120"/>
              </a:tblGrid>
              <a:tr h="64260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Goal (#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Assessment  (#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Instruction (#3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64260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xplain how a bill becomes a l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  <a:tr h="119124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ompare daily lives of children during the GD to the lives of children to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</a:tr>
              <a:tr h="64260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Use patterns to skip count by 5s, 10s, &amp;2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  <a:tr h="64260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dentify statements that are sim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Should we make our students aware of our learning goals?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Where do learning goals come from?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te and National Standard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te that standards do not necessarily make effective learning goals 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LCES &amp; HSC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Benchmarks clarify the outcome stated in the standard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eacher Edit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23:00:29Z</dcterms:created>
  <dc:creator>EMU User</dc:creator>
  <dc:description/>
  <dc:language>en-US</dc:language>
  <cp:lastModifiedBy>EMU User</cp:lastModifiedBy>
  <dcterms:modified xsi:type="dcterms:W3CDTF">2010-09-20T13:12:47Z</dcterms:modified>
  <cp:revision>5</cp:revision>
  <dc:subject/>
  <dc:title>Laying the Groundwork for your Curriculum Unit</dc:title>
</cp:coreProperties>
</file>